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999-9B50-4ECE-8FBD-1EF298F5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887-DBD1-4579-906A-A721D34D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F58-085D-487D-A262-035C0A35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F15-ACB7-40C7-867C-FC9E7CC7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DB3-E4CC-4464-A7B0-D1251D17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197-B692-439C-8838-1AC57ABA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1263-5960-4324-A2B7-1F4778D1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FD14-6362-4A1D-8E76-6B1FE345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7244-2AC9-459D-8F52-455E00C4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3ACD-2099-4B8B-B024-95141C0C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2FFB-9848-428E-98AE-96444A7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68B-507F-4EBE-AB55-BEFF86F1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C690-3992-4114-83AA-E2798C12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CAE8-D389-4E1E-B9DD-D5116641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1657-8CA5-46B9-B44D-391454EA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31DE-19AC-45D9-BBC9-4BAC6E4E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7539-2BD9-47D3-92CB-6A1BCC1D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896-C034-42CA-88FC-9127577C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D94-6DBB-4B6E-A6AA-45B0B6F8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FBC-D908-4EE7-AA25-BF22F158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6DE-0A17-4082-9B9C-E48062DF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F0F-4EA6-4C52-B0EB-FA61103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DC1-0B9A-47FD-8863-53340D6A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2C7-3B4E-44E2-8A3B-953556AA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3290-AFA2-4F70-9D7D-ADE4FD7DD1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0049-8841-48F4-9D53-F18D463DC0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lectie de desen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609480"/>
            <a:ext cx="609840" cy="152640"/>
          </a:xfrm>
          <a:prstGeom prst="rect">
            <a:avLst/>
          </a:prstGeom>
          <a:solidFill>
            <a:srgbClr val="b6b2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5029200"/>
            <a:ext cx="3429000" cy="99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Showcard Gothic"/>
              </a:rPr>
              <a:t>MADA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33520"/>
            <a:ext cx="838440" cy="152280"/>
          </a:xfrm>
          <a:prstGeom prst="rect">
            <a:avLst/>
          </a:prstGeom>
          <a:solidFill>
            <a:srgbClr val="b6b2b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5170680" cy="3606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5800" y="2514600"/>
            <a:ext cx="6095880" cy="27432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howcard Gothic"/>
              </a:rPr>
              <a:t>COLECTIA ME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howcard Gothic"/>
              </a:rPr>
              <a:t>DE DESE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990720"/>
            <a:ext cx="1447920" cy="304560"/>
          </a:xfrm>
          <a:prstGeom prst="rect">
            <a:avLst/>
          </a:prstGeom>
          <a:solidFill>
            <a:srgbClr val="b6b2b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a m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77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caria mea prefer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924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a arat eu cand sunt tris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2485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o-RO" sz="4000" spc="-1" strike="noStrike">
                <a:solidFill>
                  <a:srgbClr val="000000"/>
                </a:solidFill>
                <a:latin typeface="Comic Sans MS"/>
              </a:rPr>
              <a:t>aşa arat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u </a:t>
            </a:r>
            <a:r>
              <a:rPr b="0" lang="ro-RO" sz="4000" spc="-1" strike="noStrike">
                <a:solidFill>
                  <a:srgbClr val="000000"/>
                </a:solidFill>
                <a:latin typeface="Comic Sans MS"/>
              </a:rPr>
              <a:t> cand sunt vese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6294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REVEDER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057400"/>
            <a:ext cx="6324480" cy="35812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cdb5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66"/>
                </a:solidFill>
                <a:latin typeface="Comic Sans MS"/>
              </a:rPr>
              <a:t>DIPLOMA DE ME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 ACORDA MADALI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EN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ARNICIA SI TALENTUL EI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8.0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647200">
            <a:off x="5184360" y="4662000"/>
            <a:ext cx="1478160" cy="1519200"/>
          </a:xfrm>
          <a:prstGeom prst="rect">
            <a:avLst/>
          </a:prstGeom>
          <a:ln w="1584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5:03:33Z</dcterms:created>
  <dc:creator>curs</dc:creator>
  <dc:description/>
  <dc:language>en-US</dc:language>
  <cp:lastModifiedBy>curs</cp:lastModifiedBy>
  <dcterms:modified xsi:type="dcterms:W3CDTF">2011-02-25T14:46:11Z</dcterms:modified>
  <cp:revision>6</cp:revision>
  <dc:subject/>
  <dc:title>Colectie de desene</dc:title>
</cp:coreProperties>
</file>